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F2F-2EAA-41C9-AD23-57CC6BB3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09B-7980-4178-BE81-6B54E4BC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E38-4E1A-4BEC-8565-E7031E97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642-F6A5-4165-AA5A-9BF36082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A7F6-049C-4FF3-A2DC-F0062B0B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FB8-DFB7-4C26-91C4-BE8C2C88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3E7A-F945-4190-8E5E-6C596213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3F1-7D64-42CC-8EA2-485F904C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FF3-C980-44A7-B466-424CCC7B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7A3-8484-4CF5-BA80-EA0D9469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5602-AA82-48E2-9AC4-0ADC9FFF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7383-80AF-4C33-A7FA-77539D4A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9236-49D2-4AC2-921D-20A9880FF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mergent Dim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an emergent property of comprehensibilit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ency is not a separate component skill but, rather, a dimension of the meaningfulness of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serves as an index of the degree of ongoing comprehension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kins (2002) has discussed this phenomenon in terms of many different “pragmatic behaviors” in other forms of meaning making like speech, conversation, learning, and various compensatory behaviors in struggling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conceptualization of Fluency works best for our Struggling Rea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some of the implications of the obtained respon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research from our authentic working laboratory at the University of Louisiana at Lafay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he University of Louisiana at Lafayette Summer Language and Literacy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ur previous research, on literacy in struggling r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acy of Meaning-based intervention with Dyslexic and Language Disordered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s of Literacy Development in LD Students (Nel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f Mixed Literacy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rence of Avoidance Strategies During 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Efficacy of Phonemic Awareness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f Literacy Problems on Students and their Fami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dertook Several Qualitative Projects/Stu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ected Data across 19 LD/Dyslexic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ected data over three summer s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loyed videotape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loyed participant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loyed various reading recording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Several specific treatment paradig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yzed both pedagogical and assessmen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all Current Resul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sed upon our Work, Fluency operates more as an Emergent Dimension than a Component Sk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has very specific Im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Recent Data with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truggling R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rrelation with familia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rrelation with high Quality miscue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rrelation with effective retell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rrelation with Plausible prediction Consistent (average) increase in fluency just after intervention e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/19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(counted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(rating scale increase by “blind” ra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Recent Data with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truggling R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consistent increase in fluency after “weaving in meaning” rather than “non-meaningful cont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tual parameters focused on are cru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hras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erms of number of words and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moothnes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eginning rea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tona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ading with punctu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ater rea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Fluency as an Emergent Dim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llent consistency with those who see it as an emergent dim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n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Reading Fluency as a Diagnostic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Pedagogical Inde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ck S. Damico,  Ph.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University of Louisiana at Lafay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Fluency as an Emergent Dim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ency Associated with overall pro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Fluency a significant factor among struggling r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enerally reliable predictor of reading comprehension in early gr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ocus on meaningfulness is the best way to achieve fl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actical Im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ency should be viewed as an emergent phenomenon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a component sk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diagnostic value in discerning 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pedagogical value in employing an intervention at sites of fluenc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the efficiency and effectiveness of intervention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cy Assessment and Performance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Assess Authentic Literacy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l Cueing systems are available during the reading or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reading or writing is for real purposes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SERVING ACTUAL 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vel of Continuous Phra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mooth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propriate Into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ing with Punct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ck for Change in Flu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ck for “Shadowing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ck for Low Quality Misc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cy Pedagogy and 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cus should be on authentic reading of meaningful texts for authentic purpo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cus on the change in fluency as an index of when to intervene during authentic read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cy Pedagogy and 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using documented strategies to increase fluency, recognize the force of meaningfuln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 Fl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ed Rea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ce with familiar 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etry re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ers Th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rto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ired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ency Development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cy Pedagogy and 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gnize that meaning and comprehension is the crucial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this in mind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ware the Pedagogical or Curricular Fall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RED REA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y rewarding reading experience in which the learner – or group of learn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es the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bserves a more competent read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ing it with fluency and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 is invited to read a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RED REA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mediational frame where most of the real “action” in working on literacy occu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RED READING: General Poi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ildren are not risk-takers so you should mediate to make the task saf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erials make a great dif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miliar v. Unfamil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arrative v. Ex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LUEN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bility to read a text quickly, accurately, and with proper expression” (NRP, 2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bility to read expressively, meaningfully, with appropriate phrasing, and with appropriate speed” (Rasinski &amp; Padak, 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f Meaningfulness is so crucial, how do we Weave it in?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ough engaging Read Alou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are a number of excellent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trategi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during Shared 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RED READING: Weaving in Mean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d or re-read your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mediate Synop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mittent Summ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RED READING: Weaving in Mean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eshadow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t Pred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agery or Visu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ggest the child “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ead it like the character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RED READING: Weaving in Mean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a-literacy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ve the child re-read what has just been read (for authentic reason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restate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monstration Thre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mmar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uency should be viewed as an Emergent Dim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are specific Diagnostic and Pedagogical Im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stematic Observation and Qualitative Research can provide some illumination on these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ck S. Da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ris B. Hawthorn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University of Louisiana at Lafay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37-482-67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sdamico@louisiana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LUEN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meters often cited for Flu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ords per minute, reading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urac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ord recognition, deco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ords per phrase group, intonation, reading with punctu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moothnes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hesitations, false starts, repet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even rate, conversational, degree of lab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monstration 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LUEN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ed either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imens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lite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rms tend to refer to different conceptualizations of lite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mponent Sk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Emergent Dim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onent Sk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parate from other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of the component categories often ci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nemic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onent Sk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dge between word recognition/compreh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hieve accuracy in word recog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hieve automaticity in word recog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hieve syntactic awar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 students become more fluent, their word recognition improves and so does their comprehension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Rasinski,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glected Goal of the reading program (Alling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mergent Dim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ency is an epiphenomenal result of the comprehensibility derived from the process of r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an indication of the degree of comprehension during r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rehension itself is a product of an interaction between the incoming data received from the text(s), the background information brought to the task by the reader, and the readers meaning making capac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ency is an emergent product of the reader’s ongoing comprehension of the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5:41:56Z</dcterms:created>
  <dc:creator>Valued Gateway Client </dc:creator>
  <dc:description/>
  <dc:language>en-US</dc:language>
  <cp:lastModifiedBy>Jack Damico</cp:lastModifiedBy>
  <dcterms:modified xsi:type="dcterms:W3CDTF">2008-01-14T16:30:01Z</dcterms:modified>
  <cp:revision>125</cp:revision>
  <dc:subject/>
  <dc:title>PowerPoint Presentation</dc:title>
</cp:coreProperties>
</file>